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4D9-BFD3-433C-8A1A-BD11336B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EEE-74ED-4297-991D-E006BFF5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3146-6D28-43DD-90D2-3F59101B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8504-2AFF-4C95-B40B-931815DB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CD6E-F915-4535-A74F-54E78DF9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4960-1A50-4B10-80EA-6CD9226B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129A-FA3E-497B-8D48-8C377B0B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7D70-8C00-45D8-94B2-45D8FF88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5BC-49CD-4CFF-B18F-75DBAF0E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84FD-7062-4702-9376-3A562BD7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B96-E6E2-40BC-AF2D-726FA2A2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633-E885-47F4-9858-4586C581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458A-8122-4826-9157-8FEE71DEE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photobirds.com/templates/default/images_pubs/bird_skeleton.jpg&amp;imgrefurl=http://www.photobirds.com/pub_8_Avian_skeleton.html&amp;h=520&amp;w=350&amp;sz=26&amp;tbnid=5Qu_deVHKR2XJM:&amp;tbnh=274&amp;tbnw=184&amp;prev=/images%3Fq%3Dskeleton%2Bof%2Bbird&amp;zoom=1&amp;q=skeleton+of+bird&amp;hl=en&amp;usg=__cHm7oP2Yc6grbpKwcZk1g45kkQA=&amp;sa=X&amp;ei=_DiFTJi-NsP6lwf99LmGDg&amp;ved=0CBYQ9QEwAA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com/imgres?imgurl=http://www.statesymbolsusa.org/IMAGES/Illinois/NorthernCardinal2.jpg&amp;imgrefurl=http://www.statesymbolsusa.org/Illinois/bird_cardinal.html&amp;h=374&amp;w=334&amp;sz=24&amp;tbnid=Lv5eLlTHJRAABM:&amp;tbnh=238&amp;tbnw=212&amp;prev=/images%3Fq%3Dphoto%2Bof%2Bcardinal&amp;zoom=1&amp;q=photo+of+cardinal&amp;hl=en&amp;usg=__BuryGEtdPbXywFstqiOxNyAtin0=&amp;sa=X&amp;ei=sTmFTJfrLYP7lwf1ian1Dw&amp;ved=0CBkQ9QEwAQ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static.howstuffworks.com/gif/frog-1.jpg&amp;imgrefurl=http://animals.howstuffworks.com/amphibians/frog.htm&amp;h=349&amp;w=400&amp;sz=22&amp;tbnid=WneiJ9aXOx4U2M:&amp;tbnh=108&amp;tbnw=124&amp;prev=/images%3Fq%3Dphoto%2Bof%2Bfrog&amp;zoom=1&amp;q=photo+of+frog&amp;hl=en&amp;usg=__WVGmIrnR0pkzoB_SN1ML7TH6MyQ=&amp;sa=X&amp;ei=9jmFTLfZNsT_lgeyqpXQDw&amp;ved=0CCEQ9QEwAA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m/imgres?imgurl=http://www.digitalfrog.com/resources/archives/skeleton.jpg&amp;imgrefurl=http://www.digitalfrog.com/resources/froggallery.html&amp;h=414&amp;w=354&amp;sz=46&amp;tbnid=D0UucdXPA4j2cM:&amp;tbnh=125&amp;tbnw=107&amp;prev=/images%3Fq%3Dskeleton%2Bof%2Bfrog&amp;zoom=1&amp;q=skeleton+of+frog&amp;hl=en&amp;usg=__zFygvn3ySX2fZEbbwYsjshtjqZI=&amp;sa=X&amp;ei=JTqFTNH0EIOClAeFzcSMDg&amp;ved=0CCIQ9QEwB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Snake_skeleton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learning-graph.com/images/clownfish.jpg&amp;imgrefurl=http://www.learning-graph.com/look-and-tell.htm&amp;usg=__ao3nhQ0vFDoLaitkoQDIwzLj1E8=&amp;h=640&amp;w=800&amp;sz=162&amp;hl=en&amp;start=7&amp;zoom=1&amp;um=1&amp;itbs=1&amp;tbnid=0ay8bf-PASmSZM:&amp;tbnh=114&amp;tbnw=143&amp;prev=/images%3Fq%3Dphoto%2Bof%2Bfish%26um%3D1%26hl%3Den%26sa%3DX%26tbs%3Disch:1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teb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s with Back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76920" y="3581280"/>
            <a:ext cx="3429000" cy="2732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34120" y="1295280"/>
            <a:ext cx="26668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838080"/>
            <a:ext cx="1782720" cy="2667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33720" y="3657600"/>
            <a:ext cx="2109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210040" cy="1942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457200"/>
            <a:ext cx="1849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Snake skelet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962520"/>
            <a:ext cx="4171680" cy="2332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copperhead1"/>
          <p:cNvPicPr/>
          <p:nvPr/>
        </p:nvPicPr>
        <p:blipFill>
          <a:blip r:embed="rId3"/>
          <a:stretch/>
        </p:blipFill>
        <p:spPr>
          <a:xfrm>
            <a:off x="228600" y="3962520"/>
            <a:ext cx="426708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828800"/>
            <a:ext cx="2286000" cy="1822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791320" y="4038480"/>
            <a:ext cx="26668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8:52:19Z</dcterms:created>
  <dc:creator>Gary</dc:creator>
  <dc:description/>
  <dc:language>en-US</dc:language>
  <cp:lastModifiedBy>Gary</cp:lastModifiedBy>
  <dcterms:modified xsi:type="dcterms:W3CDTF">2010-09-06T19:07:01Z</dcterms:modified>
  <cp:revision>3</cp:revision>
  <dc:subject/>
  <dc:title>Vertebrates</dc:title>
</cp:coreProperties>
</file>